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A36-24CC-4E85-BF50-9C4D62FB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BC5-7635-4369-8507-3C42701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6DD-3169-439C-983B-57950E07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CF1-0091-4A5A-9087-61137E92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4F4-24C6-4E8E-8C40-78C9583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BEC-CEF8-4E75-8A32-B198A3B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010-D694-4194-B844-06A95B9B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0D8-E5BB-40D9-B4EB-82DA70FC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9C9-62FA-41E5-B0FE-D926FDEA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67D-B1B5-44AF-8316-E74E62B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FE4-3429-42D7-BA0C-91A82D3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10A-A00F-4291-AF20-0F8F2F8D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E55-F3F8-4C30-A2E5-E712A8ECC52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Impact Of Weather On Human Activit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rou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m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y a huge role in defining what human activities can and cannot occ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farming types are directly influenced by the clim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more extreme weather conditions are shown below to describe how they might affect human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ri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itain doesn't tend experience extremes of weather too often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g is common, and we usually have at least one bad flood each year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wever, droughts and tropical storms (hurricanes) are much more ra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the last 25 years Britain has experienced drought conditions in the summer of 1976 and 1995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th caused great problems for local water supplies, after months of below average rainfall caused the reservoirs to run ou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lthough these two summers were very hot, dry and caused problems they were nothing comparable to the extreme droughts recently experienced in Afric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ri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nited Kingdom is not in the normal line of tropical storms or hurricanes ei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7 a hurricane hit southern England causing millions of pounds worth of damage, but this was a freak occurrence rather than something we should expect every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rou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ough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imes when there has been below average rainfall for a period of time, causing water supplies to dry up and run ou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untries such as the United Kingdom and America they cause inconveniences for the local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robably will be affected and water supplies might be more tightly controlled, but in general the country will cope pretty we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mid 1990's California suffered a 3-year drought, and yet life continued almost as nor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rou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 in some less developed countries the threat of drought is a very dangerous one that could result in millions of people starving to death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places such as Ethiopia and Sudan rely on the rains for their cro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of them are subsistence farmers, which means that they grow enough for themselves, and maybe a little to sel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rains fail they are left with no food and no means to buy an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qually Africa is a very hot and dry continent, so drinking water is always very valuab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ains mean that quickly people run out of wat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ious droughts have affected areas of Africa for the past 30 years, killing millions of peop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Fog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can cause great problems when it occurs in the United Kingdom, Anyone who has been in a car on the motorway in fog will appreciate this fac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ccidents are frequently caused by people driving too fast in patches of thick fog where the poor visibility means that they cannot really see the cars in fro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ther methods of transport such as ships and planes are also badly affected by the poor visibility associated with fog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2:42:06Z</dcterms:created>
  <dc:creator>Dell_02</dc:creator>
  <dc:description/>
  <dc:language>en-US</dc:language>
  <cp:lastModifiedBy>Dell_02</cp:lastModifiedBy>
  <dcterms:modified xsi:type="dcterms:W3CDTF">2011-01-27T23:20:52Z</dcterms:modified>
  <cp:revision>3</cp:revision>
  <dc:subject/>
  <dc:title>Impact Of Weather On Human Activity</dc:title>
</cp:coreProperties>
</file>